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F4F-8473-4D2C-85E7-EE774F7E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4B3-A47C-47F3-841B-906E00EF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AA5-2D7E-4FD8-BB38-AE3F4750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FA4-386E-4023-AA81-23AD9D10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41B7-045C-4A99-A1D7-8EA0F8C3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E60A-DCE2-49DA-AD2E-AC10C2AC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0CAE-2634-45FF-976B-08A40841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37AF-B1A3-4E0E-8BB8-DBA9720D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14B-03A0-4F58-B75B-2468BC1D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71A0-3B8A-4F77-8931-F98CA6E0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8E06-9034-43EF-B171-1FC4A1C8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7DB-1EF8-4ED6-A0AD-255D9932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7F8F-564D-4E22-8CC4-5042D62C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F02A-FB6C-4F3E-AA75-69FC73B7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75C9-40BF-4DB2-96A4-D8CB84CB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8A09-2D85-474E-A887-4FCFEBDC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C7EE-B565-477E-BB91-69E2F3FF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8DF-17E6-4D71-89B3-F0D276A5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493-E63C-403D-86D8-B2ED920F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6BF-28CD-459D-8E5F-E13D52DF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2EB-9D85-433F-8542-308D95FF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FD5-395A-4CA7-8880-3CCBCB8B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DB3-7FEC-42C6-A115-AEA0F1E7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2E2-07EB-420F-80DD-781065C9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114F-F26D-445B-BDDF-E0762733A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A4BB-D97E-419A-9ED2-E92ACD040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ill There Was No Remedy”</a:t>
            </a:r>
            <a:br>
              <a:rPr sz="4400"/>
            </a:br>
            <a:r>
              <a:rPr b="0" i="1" lang="en-US" sz="4400" spc="-1" strike="noStrike">
                <a:solidFill>
                  <a:srgbClr val="b7e7ff"/>
                </a:solidFill>
                <a:latin typeface="Arial"/>
              </a:rPr>
              <a:t>Judah Alo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7, Lesson 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68-1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ings 24-25; Jeremiah 38,40-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C41E-6C8F-41C9-A042-F24ACCF2791B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hould They Go To Egyp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Jews wanted to escape from the Babylonians by way of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inquired of Jeremiah and swore to do whatever God comma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ave in to their fear of Babylon over their fear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ompelled Jeremiah to go to Egypt –Jer.43:1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ought that he may have died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865-8E93-4729-8CAE-E0FF18972E2A}" type="slidenum">
              <a:t>10</a:t>
            </a:fld>
          </a:p>
        </p:txBody>
      </p:sp>
    </p:spTree>
  </p:cSld>
  <p:transition>
    <p:blinds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Rejected War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not listen….” Jer.44:15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o everything we vowed…” (It will be business as usual) - 17-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be entirely consumed - 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roof, the king of Egypt will be given into the hand of his enemies - 29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727-C5A2-43E1-AF47-D6063E1ADF90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hron. 36:16 (KJV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mocked the messengers of God, and despised his words, and misused his prophets, until the wrath of the Lord arose against his people,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ll there was no remed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7BB-EE72-4610-8A95-34B043809442}" type="slidenum">
              <a:t>12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Fall of Jerusalem</a:t>
            </a:r>
            <a:br>
              <a:rPr sz="28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     2 Kgs.24:18-20; 2 Chron. 36:13-21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dekiah Reigned in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twenty one when he became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igned eleven years in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what w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v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sight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Nebuchadnezzar for nine years and then rebelled depending upon Egypt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he Babylonian army starts the siege of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DED-2EED-493C-B67C-F1A83E79AD76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eremiah and the Fall of Jerusalem</a:t>
            </a:r>
            <a:br>
              <a:rPr sz="28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(Book of Jeremiah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preached during the sieg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that abides in this city shall die by the sword, and by the famine; and by plague but he that goes out and surrenders to the Chaldeans that besiege you, he shall live…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er. 21:9-1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 He was threatened with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3EF-B845-474F-B41B-1D80D91C667D}" type="slidenum">
              <a:t>3</a:t>
            </a:fld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eremiah and the Fall of Jerusalem</a:t>
            </a:r>
            <a:br>
              <a:rPr sz="40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(Book of Jeremiah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old Zedekiah (Jer. 21:3-7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I will not be with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Your weapons will be ineff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I will be fighting on the Chaldeans’ side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“I set before you the way of life, and the way of death” (Jer. 21: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598-0D77-4D9D-8918-9F0CF43D6855}" type="slidenum">
              <a:t>4</a:t>
            </a:fld>
          </a:p>
        </p:txBody>
      </p:sp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eremiah and the Fall of Jerusalem</a:t>
            </a:r>
            <a:br>
              <a:rPr sz="40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(Book of Jeremiah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also told Zedekia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aoh’s army which is come forth to help you, shall return to Egypt into their own lan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he would see Nebuchadnezzar with his eyes, speak to him face to face, and die in peace in Babylon  without seeing the c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er. 32:4; 34:1-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leaders begged Zedekiah to kill Jeremiah because of his call for them to  surrender to the Chald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73D-05BD-4AD8-906A-6510662D85D0}" type="slidenum">
              <a:t>5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Jeremiah In the Dungeon</a:t>
            </a:r>
            <a:br>
              <a:rPr sz="36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(Jeremiah 38:1-28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again urged Zedekiah to surrender or Jerusalem would be burned with fire and he would not escape (Jer. 38:17-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was lowered into the dungeon of Malchijah with no water and sank into a muddy mi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bed-melech, an Ethiopian eunuch in Zedekiah’s house, rescued Jerem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dekiah was afraid and would not 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083-737E-4AEE-8289-0A2C1936E25F}" type="slidenum">
              <a:t>6</a:t>
            </a:fld>
          </a:p>
        </p:txBody>
      </p:sp>
    </p:spTree>
  </p:cSld>
  <p:transition>
    <p:blinds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Sie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dekiah watched his sons be k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dekiah’s eyes are gouged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taken to Babylon with his eyes put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 had said he would see the king of Baby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ekiel had said he would be taken to Babylon but not “see”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889-AD70-4EF5-9E13-7FC88D1025EB}" type="slidenum">
              <a:t>7</a:t>
            </a:fld>
          </a:p>
        </p:txBody>
      </p:sp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Sie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 was plundered and bu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le was destr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tives taken to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the very poor were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writes Lamentations – see 1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51E-4B9F-4898-9561-578340C441F1}" type="slidenum">
              <a:t>8</a:t>
            </a:fld>
          </a:p>
        </p:txBody>
      </p:sp>
    </p:spTree>
  </p:cSld>
  <p:transition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edaliah Appointed Governor</a:t>
            </a:r>
            <a:br>
              <a:rPr sz="4400"/>
            </a:b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2 Kgs.25:22-26; Jer.40-44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buchadnezzar promises him peace if he submits to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in a short time he was assassinated by Ishmael, an army cap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anan had warned Gedaliah – Jer.40:13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733-3FFD-4D8D-9E16-F1821FED0531}" type="slidenum">
              <a:t>9</a:t>
            </a:fld>
          </a:p>
        </p:txBody>
      </p:sp>
    </p:spTree>
  </p:cSld>
  <p:transition>
    <p:blinds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22:21:08Z</dcterms:created>
  <dc:creator>Terry W. Benton</dc:creator>
  <dc:description/>
  <dc:language>en-US</dc:language>
  <cp:lastModifiedBy>Frank D Vines</cp:lastModifiedBy>
  <dcterms:modified xsi:type="dcterms:W3CDTF">2006-03-31T13:38:22Z</dcterms:modified>
  <cp:revision>16</cp:revision>
  <dc:subject/>
  <dc:title>Till There Was No Remedy Divided Kingdom - 2</dc:title>
</cp:coreProperties>
</file>